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278B-704D-4335-941E-0BCA9AC8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492-C736-40A6-A07F-B0E29107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BB1-7579-4D4F-8045-0B22339D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F99-8272-44EC-94B2-F0EE192C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2C4E-1B7C-44BF-A090-B7C2038C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3472-A3D1-47C7-ADBE-C0633E1A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8B95-F347-4003-94F2-2E9474C7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AFDB-7021-40FC-822E-E154AD1C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E039-04C8-4647-9162-2E310A3B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6CA0-6A73-4F29-AF6C-487AD139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9698-BCDC-4823-A069-AA5D81A1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DD3A-4716-4454-9DA0-C164A48A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A0EC-EE95-467A-9118-96137338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BC37-ACF5-400B-B2B8-43C6C36A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A1AA-B7EC-426A-9022-D827B06A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08A0-F0D4-4D01-865A-0A705681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76CE-2550-4533-9014-18C76D2F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A5B-48C3-4339-9485-8F67E99A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9C3A-7895-455C-8C91-4120F83C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6737-B14E-4132-9C13-70E7DC0C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86A4-72F5-4A7C-830E-0D9E4E8A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E2B-0174-473A-83BF-F7217EBF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F22D-B951-46A5-A148-32CB07B2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4CD-803B-4EE6-B098-11EB5DA5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00EE-2D73-4D1F-A9EA-B689FB64BE6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8154-DF0B-4F00-99D3-A26F2F9D37C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ourdes.day@polk-fl.net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cicatalog.com/" TargetMode="External"/><Relationship Id="rId2" Type="http://schemas.openxmlformats.org/officeDocument/2006/relationships/hyperlink" Target="http://www.attainmentcompany.com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aturalreaders.com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nlvm.usu.edu/en/nav/vlibrary.html" TargetMode="External"/><Relationship Id="rId2" Type="http://schemas.openxmlformats.org/officeDocument/2006/relationships/hyperlink" Target="http://www.ct4me.net/math_manipulatives.htm#Manipulatives" TargetMode="External"/><Relationship Id="rId3" Type="http://schemas.openxmlformats.org/officeDocument/2006/relationships/hyperlink" Target="http://themathworksheetsite.com/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donline.org/article/5896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donline.org/article/5896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donline.org/article/5896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ldoe.org/ese/pdf/descfcat.pdf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raphtablet.com/graphtablet.html" TargetMode="External"/><Relationship Id="rId2" Type="http://schemas.openxmlformats.org/officeDocument/2006/relationships/hyperlink" Target="http://www.onionmountaintech.com/" TargetMode="External"/><Relationship Id="rId3" Type="http://schemas.openxmlformats.org/officeDocument/2006/relationships/slide" Target="slide6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ensorysoftware.com/bigcalculator.html" TargetMode="External"/><Relationship Id="rId2" Type="http://schemas.openxmlformats.org/officeDocument/2006/relationships/hyperlink" Target="http://www.moffsoft.com/freecalc.ht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797120"/>
            <a:ext cx="7772400" cy="14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ssistive Technology Tools 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ath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43430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By Lourdes Day, FDLRS Technology Specialist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Local Assistive Technology Team (LAT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Lourdes.day@polk-fl.ne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762120" y="5754600"/>
            <a:ext cx="71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lorida Diagnostic and Learning Resources System (FDLRS) is funded through IDEA, Part B and State General Revenue Funds to provide support services to Florida’s Exceptional Student Education Progra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udio Rul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Crayola Total Tools Audio Ruler measures out loud! This talking tool measures in quarter inch increments up to one foot with a thin line of disappearing ink.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7426"/>
                </a:solidFill>
                <a:latin typeface="Arial"/>
                <a:ea typeface="Arial"/>
              </a:rPr>
              <a:t>Cost $7.99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Picture 5" descr="ruler.jpg"/>
          <p:cNvPicPr/>
          <p:nvPr/>
        </p:nvPicPr>
        <p:blipFill>
          <a:blip r:embed="rId1"/>
          <a:stretch/>
        </p:blipFill>
        <p:spPr>
          <a:xfrm>
            <a:off x="6781680" y="4638600"/>
            <a:ext cx="2219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dapted Grip Rul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n adapted ruler will help a student with poor hand or finger dexterity grasp and manipulate a ruler for those FCAT assessment items where measurement is required</a:t>
            </a:r>
            <a:r>
              <a:rPr b="0" lang="en-US" sz="3200" spc="-1" strike="noStrike">
                <a:solidFill>
                  <a:srgbClr val="080808"/>
                </a:solidFill>
                <a:latin typeface="Comic Sans MS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7426"/>
                </a:solidFill>
                <a:latin typeface="Arial"/>
                <a:ea typeface="Arial"/>
              </a:rPr>
              <a:t>Cost $1.00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33812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Picture 5" descr="PIC2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828800" y="5181480"/>
            <a:ext cx="5840280" cy="1371600"/>
          </a:xfrm>
          <a:prstGeom prst="rect">
            <a:avLst/>
          </a:prstGeom>
          <a:ln w="0">
            <a:noFill/>
          </a:ln>
        </p:spPr>
      </p:pic>
      <p:sp>
        <p:nvSpPr>
          <p:cNvPr id="132" name="Footer Placeholder 5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Tools for Mone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Money Calc or Coin-u-Later ($25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www.pcicatalog.com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Software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Making Change or Basic Coins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2"/>
              </a:rPr>
              <a:t>www.attainmentcompany.com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Picture 2" descr="http://assistivetech.sf.k12.sd.us/images/Coinulator.jpg"/>
          <p:cNvPicPr/>
          <p:nvPr/>
        </p:nvPicPr>
        <p:blipFill>
          <a:blip r:embed="rId3"/>
          <a:stretch/>
        </p:blipFill>
        <p:spPr>
          <a:xfrm>
            <a:off x="6858000" y="4952880"/>
            <a:ext cx="19051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Text to Speech Technolog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160" y="19051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Use text to speech technology which can read word problems to students who have difficulties with decoding. This will allow students to read  independently 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83080" indent="-3913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www.naturalreaders.com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 (free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883080" indent="-3913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he following products allow you to scan the worksheet and then have it read to the student.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883080" indent="-3913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Read, Write, Gold –TextHelp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883080" indent="-3913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Kurzweil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883080" indent="-3913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Wynn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883080" indent="-3913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Intellitalk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Web Sites of Free Resourc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Free online virtual manipulative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934560" indent="-4143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http://nlvm.usu.edu/en/nav/vlibrary.htm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This page links to many other manipulative site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934560" indent="-41436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Times New Roman"/>
                <a:hlinkClick r:id="rId2"/>
              </a:rPr>
              <a:t>http://www.ct4me.net/math_manipulatives.htm#Manipulatives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Worksheet Generator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934560" indent="-4143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3"/>
              </a:rPr>
              <a:t>http://themathworksheetsite.com/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934560" indent="-4143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http://www.mathfactcafe.com/build/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15800" indent="-41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Flash Card Generator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934560" indent="-4143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http://www.studystack.com/category-8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15800" indent="-4158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Online Math Gam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120" y="2101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Elementary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http://www.k111.k12.il.us/KING/math.htm#Beginning%20Math%20Activites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http://www.funbrain.com/brain/MathBrain/MathBrain.html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K-8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http://www.aaastudy.com/add.htm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http://www.thatquiz.org/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  <a:ea typeface="Arial"/>
              </a:rPr>
              <a:t>Homework Help or Reinforcement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http://www.webmath.com/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http://www.ixl.com/math/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Commercial Softwa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1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Math Pad (Basic Operations) &amp; Math Pad Plus (Fractions &amp; Decimal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903600" indent="-40068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Students can input problems and solve them on the computer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Virtual Pencil (Algebra and Arithmetic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903600" indent="-40068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Works well for students who are blind or have learning disabiliti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Math Companion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903600" indent="-40068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Created numeric and word problem activiti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  <a:ea typeface="Arial"/>
              </a:rPr>
              <a:t>Math Difficulties –Attention &amp;Memory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3520" y="1371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About 6% of school age children have a mathematics deficit. This could be related to memory problems which leaves them unable to master the math facts.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*Calculators and math charts are useful tools to accommodate this area 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Some students understand the concepts but have difficulties with attention. This students will have problems: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*Sequencing steps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Start by giving students a checklist that they can use to  move logically through a </a:t>
            </a:r>
            <a:r>
              <a:rPr b="0" i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	</a:t>
            </a:r>
            <a:r>
              <a:rPr b="0" i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 problem and then wean the prompt by masking one step at a time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*Paying attention to the signs of operations.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Highlight or change the color of the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igns</a:t>
            </a: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 to draw their attention to the symbol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Kate Garnett (1998)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99"/>
                </a:solidFill>
                <a:uFillTx/>
                <a:latin typeface="Arial"/>
                <a:ea typeface="Arial"/>
                <a:hlinkClick r:id="rId1"/>
              </a:rPr>
              <a:t>http://www.ldonline.org/article/5896</a:t>
            </a: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Math Difficulties -Symbolic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Young children may have difficulties matching picture with symbolic representation (eg.. Count the cats in this pictures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here is research evidence that students who use concrete materials actually develop more precise and more comprehensive mental representations, often show more motivation and on-task behavior, may better understand mathematical ideas, and may better apply these to life situations. (Garnett 1998)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*</a:t>
            </a:r>
            <a:r>
              <a:rPr b="0" i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Use concrete objects that they can hold and manipulat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62120" y="4952880"/>
            <a:ext cx="74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Kate Garnett (1998)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http://www.ldonline.org/article/5896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  <a:ea typeface="Arial"/>
              </a:rPr>
              <a:t>Math Difficulties related to Languag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Some students are hampered by the language aspects of math, resulting in confusion about terminology, difficulty following verbal explanations, and/or weak verbal skills for monitoring the steps of complex calculations.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54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*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achers can help by slowing down the pace of their delivery, "chunking" of verbal information when asking questions, giving directions, presenting concepts, and offering explanations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54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*Have the students play teachers and explain how they arrived at the answer. Give them concrete materials to help explain their answers.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 marL="540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Kate Garnett (1998)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 marL="540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99"/>
                </a:solidFill>
                <a:uFillTx/>
                <a:latin typeface="Arial"/>
                <a:ea typeface="Arial"/>
                <a:hlinkClick r:id="rId1"/>
              </a:rPr>
              <a:t>http://www.ldonline.org/article/5896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 marL="540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&amp; Math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Assistive technology may help students who struggle in the area of math, to compute, sort, graph, align and solve word problem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Allowable FCAT accommodation include: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he use of a Talking calculator in grade 7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Grid Paper to align number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Reading of word problem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Abacus and Geoboard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985680" indent="-4370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*These MUST be listed on the IEP and used in  daily instruction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  <a:hlinkClick r:id="rId1"/>
              </a:rPr>
              <a:t>http://www.fldoe.org/ese/pdf/descfcat.pdf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Math Tools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Grid paper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Talking Calculator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Talking Ruler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bacus / Number lin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Grip ruler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Coin-U-Lator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Math Stamp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Math Software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Math Companion, Math Pad, Excel…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10" name="Picture 4" descr="PIC200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867280" y="914400"/>
            <a:ext cx="2716200" cy="209700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Math Gri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Math grids provide more space for computations and help the student organize and align computational steps.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11480" indent="-411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Try turning a regular piece of lined paper horizontally so the lines go up and down. This give students place value columns to align their number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924120" indent="-40968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Create your own free graph paper on the web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92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  <a:hlinkClick r:id="rId1"/>
              </a:rPr>
              <a:t>	http://www.graphtablet.com/graphtablet.html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924120" indent="-40968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7426"/>
                </a:solidFill>
                <a:latin typeface="Arial"/>
                <a:ea typeface="Arial"/>
              </a:rPr>
              <a:t>CD of a variety of Math grids available form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  <a:hlinkClick r:id="rId2"/>
              </a:rPr>
              <a:t>www.onionmountaintech.com</a:t>
            </a:r>
            <a:r>
              <a:rPr b="1" lang="en-US" sz="2400" spc="-1" strike="noStrike">
                <a:solidFill>
                  <a:srgbClr val="267426"/>
                </a:solidFill>
                <a:latin typeface="Arial"/>
                <a:ea typeface="Arial"/>
              </a:rPr>
              <a:t> Cost $10.00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14" name="Picture 4" descr="PIC900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0120" y="0"/>
            <a:ext cx="1523880" cy="1528920"/>
          </a:xfrm>
          <a:prstGeom prst="rect">
            <a:avLst/>
          </a:prstGeom>
          <a:ln w="0">
            <a:noFill/>
          </a:ln>
        </p:spPr>
      </p:pic>
      <p:sp>
        <p:nvSpPr>
          <p:cNvPr id="115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Talking Calculato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 talking calculator reads back entries and answers to aid a student who needs auditory help in calculation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Remember the student may need to be a location or use headphones so not to disturb others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7426"/>
                </a:solidFill>
                <a:latin typeface="Arial"/>
                <a:ea typeface="Arial"/>
              </a:rPr>
              <a:t>Cost $20.95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3856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Picture 5" descr="PIC200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380280" y="0"/>
            <a:ext cx="2763720" cy="2133720"/>
          </a:xfrm>
          <a:prstGeom prst="rect">
            <a:avLst/>
          </a:prstGeom>
          <a:ln w="0">
            <a:noFill/>
          </a:ln>
        </p:spPr>
      </p:pic>
      <p:sp>
        <p:nvSpPr>
          <p:cNvPr id="120" name="Footer Placeholder 5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Online Calculato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Talking calculator  free to download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1"/>
              </a:rPr>
              <a:t>http://www.sensorysoftware.com/bigcalculator.html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Basic Calculator with paper display (free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2"/>
              </a:rPr>
              <a:t>http://www.moffsoft.com/freecalc.htm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3T19:48:03Z</dcterms:created>
  <dc:creator>lday</dc:creator>
  <dc:description/>
  <dc:language>en-US</dc:language>
  <cp:lastModifiedBy>lourdes.day</cp:lastModifiedBy>
  <dcterms:modified xsi:type="dcterms:W3CDTF">2008-06-17T16:37:47Z</dcterms:modified>
  <cp:revision>110</cp:revision>
  <dc:subject/>
  <dc:title>Assistive Technology</dc:title>
</cp:coreProperties>
</file>